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F02C-B3DE-4A8C-93CE-7EFFE684D2F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C6AA-341A-4706-94A0-E3962D1659B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74F-DF1B-4345-868E-CADEF323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C89-5715-4509-BDC2-EC61924D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CD6-43AB-44E3-BFE0-6169AD49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880-04D3-4654-B380-516879AC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4739-C784-4109-8392-F5EEBDAC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098F-D72F-442A-94D2-C7429CC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151E-FA60-40D9-A2AF-78E258BB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DF98-BC51-425F-BC42-33A2A990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602F-00BE-4833-A1CB-9C1DC91C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C4B9-CB53-43FA-8477-5A14C4ED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AF72-5B85-4437-AAF6-0F8AF89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596-920D-41C0-BAB2-158B0A4D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4F21-B089-401C-AC9F-3F97AA02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EE51-065C-4A49-B638-EF9B784C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443E-6966-4276-86BF-BD39AD1C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44F1-5462-4783-BFC6-DC509716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123F-6EC5-4D29-A3B4-0B7F50BA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0B73-9C27-497D-88A6-363D8B70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03C6-EA0D-4A26-BBF4-3C520D9F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7CD54-F2B5-4EC7-810C-D9CB58D1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3EC62-32D3-4536-A38C-11BC4D64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5B79-53C4-498D-BA3F-32162FA9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6C5-5CB7-4713-A9F2-A77F8ED5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223F-49C9-4E23-848F-9F756A3E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F6CD-2917-4151-8ED7-82D63240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DFEC8-258D-4683-9230-0E46B74C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FC0B-13EA-411D-B5F4-57D2BA08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FB6D-F02E-453A-9E0E-85CD3BF2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8B68-2CE3-4E79-AB8F-CA3A40B0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8D07-4732-4E6D-A836-4BBECAB3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E317-0E73-4ED3-B2DE-A4EDE6C5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497C-A26B-4806-A08C-8CF09221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EE94-9FC6-4222-95E5-5FAC369B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66A-099B-49A5-ABE1-AC94597F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E1400-4596-491D-A97F-61DA4A45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690C5-3CAB-4F35-9DD4-C3121FBC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499BC-7E48-4EC5-A512-AFF426BD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25EC-1B8E-43E8-98EE-01833AEE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386FB-8C70-4BC1-A5E4-9F1AB347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DE76-7461-42D0-8B0D-4F3070DB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FD09-7200-4E6F-B3DB-BFF7B772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118D6-B80C-4CBE-A046-DF99BF27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7357-8B32-481D-97D0-254B8629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830FA-C21B-464E-B2BD-2B319EF4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621-2F28-4348-A1F0-595B5FF2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7359E-121F-472E-AF8E-96F652C2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A140-F6EE-49BB-B056-D94C35FF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D17A-4072-4273-88FD-58770C91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4E31B-BB96-49D0-9F14-8B0924FB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7ED3-9BDF-483A-855B-CC6404BD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C3A4C-E054-4007-99EC-38E950A3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AC92C-374B-4B2C-A418-C9DCAC1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B1FDF-28DE-47BD-B4DA-A4DFEFA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370B6-3EB6-4316-9A39-D5AE6E7F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A881-4FC9-4E11-B838-99B6AAC8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7CB-B471-4D2A-89CE-1FC48682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9D9C-C176-4DB2-8220-3EF01E40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21781-E0B7-4834-B703-F4CAE6EF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406BE-1B12-4598-99EB-7CD806B4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AD224-9222-4AA9-AC7E-BB870E7D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2DAFC-0E8F-4725-BD1B-90BF8068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ECA08-9BDC-43F9-92CB-5F688390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BFEAC-0C67-4FD2-8761-1E374B0E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99FCB-3820-4204-B788-888EBCB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E0B5B-3BEC-47CE-BD57-9655274F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2197-7A7C-4101-8F6E-DC68A96D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1F5-020A-4800-99BA-3F8957E7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9D695-177B-4D50-93A8-16A3026A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B088B-0472-44E5-8B58-55FF734C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0FA72-2911-457C-B369-60DC88C2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D9710-C349-40AC-A2AD-678ABF7A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25524-7D73-48E0-88A1-FB1DE5EB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000CD-7C3E-467B-9749-699CF338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36F0A-4591-41F6-82F3-1C9A0AF8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3F602-722A-44FA-9FD5-0974421B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7FDFD-1B1E-4E28-8CEC-F7B907D8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24B9F-18DD-4E79-8E42-24F4C618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9C0-589C-4635-8940-29F2A448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5D9B0-1DD3-460B-8DBC-A2732F5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2B0AA-DCB2-49CD-ACB6-34D7B5C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512FE-B3BE-48B8-BEFC-7D01D381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7597-2A4A-4173-94C6-1424FF1F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5889B-A395-4FC1-BDA7-B41A84AA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F97-DB78-4150-97DD-9DAB1D1A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D0ED-F6A1-432F-86B0-E8279790E36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6531-5060-40CA-9D97-DD5EF9B4E32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6B09-C650-4BBA-9D6C-E0DCCD938D4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2EEC-69F5-4772-9B8A-4B462C9A90E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6602-7CA0-4725-A296-6086FE51F12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2D71-942B-4318-BE2F-D436F432B33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178B-1054-4779-BD74-2D37EBB8A6F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5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Máxima Entrop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l modelo y realizar estimaciones futuras de la matriz origen-destino utilizando una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lantee el problema de maximización correspondiente a máxima entropía doblemente acotado con restricción de costos y con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uelva y encuentre las ecuaciones para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j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y las ecuaciones de punto fijo que permiten calcular los parámetros A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y B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ta actividad puede ser desarrollada en papel siempre y cuando esté bien ordenado el desarrollo y se anote el los nombres de todos los integrant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futura que resulta de aplicar el método de entropía con matriz a priori desarrollado en la actividad anterior utilizando los datos que se adjunta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los resultados obtenidos en la actividad anterior con los resultados obtenidos en el taller 4 con el método de furness y gravitacional. Realice un análisis e interpretación basado en esta comparación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cuerde que el modelo gravitacional usado en el taller anterior es equivalente al de máxima entropía doblemente acotado con restricción de cos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5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9T15:57:53Z</dcterms:modified>
  <cp:revision>47</cp:revision>
  <dc:subject/>
  <dc:title>Taller I CI43A</dc:title>
</cp:coreProperties>
</file>